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5EA-4DB7-41CE-8B57-634C1BC9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F16-CF41-4025-8270-C760B824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012-DD42-4E26-B4A8-FB1A82B2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2B1-9C5C-4D85-9C00-9A4FB831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7A0-97D7-4B9F-A68C-7EF8160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708-735B-4519-B30A-9CBF7BF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E6E-407F-4519-936F-4C798086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6E7-E849-4525-9777-CFF84D2E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B85-B5B5-44BB-90F6-142CCEEE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39C-8F4F-4D5D-AB37-87A244B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541-900A-4ABF-B2B8-82C4670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C4-D859-425E-B270-E181D72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AD4B-E5AC-4064-989D-3190FEF5D3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بو دقوشتو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ea typeface="Akhbar MT"/>
              </a:rPr>
              <a:t>(ترتيلة كان يرددها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ر شربل في قداسه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َبُو دْقُوشْتُو، هُا برُخْ دِبْحاُ دَمْرَعِه لُخْ لْهُنُا قَبِل، دَحْلُفَي مِيتْ واتحاسِه بِ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أبَ الحقّ، ها هوّذا ، ابنكَ الحبيب، ذبيحةً ترضيك فاقبله، لأنه ماتَ لأجلي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ُ قُوربُنا، سَبْ مِنْ إِيدَيْ، وِاتْراعُا لي، ولاُ تِتدْخَر لي حْطُهِا دسِعْرِتْ قْدُمْ رَبُوتُخ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0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ذ هذا القربان من يديّ، وارضَ عنّي، ولا تذكر لي خطايايَ التي فعلتها أمام عظمت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ُا دْمه أَشِيدْ عَلْ غُغُولتُو مِتُلْ فُورْقُنْ وْبُعِه حْلُفَي قَبِل بُاعوتْ مِتُولُتِه كْمُو لي حَوْبِه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932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ذا دمه المسفوك على الجلجلة لأجل خلاصي.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ه يتوسّل من أجلي، فاقبل توسّله، بسببه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ْمُو لُخْ رَحْمِه إن تُقِلْ آت، حْنُنُخْ نُتَعْ تُبْ مِنْ طُورِه دَتْقِيلِينْ لُخْ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قدر ما عندي من خطايا، عندك انت من المراحم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إن وزنتها، يرجح حنانك على ثقل الجبا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ُورْ بَحْطُهِهْ وْحُورْ بَعْلُتُو دَحْلُيْفَيْهُونْ. وْسَغِي رَابُو عِلْتُا وْدِبْحُو مِنْ حَوْبوتو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نظر الخطايا وانظر ما حصل عنها من تو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التوبة والضحية تتخطّان الخطايا بكث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ِتُلْ دَحْطِيتْ صِصِا ورومحُو سْبَلْ حَبِيبُخْ وسُفْقِينْ حَشَوْ دَنْرَعُونُخْ وَبْهونْ إيحِه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لأنّني خطئتُ احتمل  ابنك المسامير والحر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في آلامه ما يرضيك وأحيا بها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شوبحو لابو دْشَدَر لَبْرِه مِتُلُتَنْ وْسِغِدْتو لَبْرُو، دبزقيفوتِه حَرَرْ خولُ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جدُ للآب الذي أرسل ابنه من أجل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السجود للابن الذي بصلبه حرّرنا جميعا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َوْدي لروحو دْبِه إشتَمْلي رُزْ فورقونَنْ. بريخ دَبْحوبِه أَحِي لْخُلَنْ ولِه تِشْبوحتو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لشكر للروح الذي به تمّ سرّ خلاص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بارك من يحبّه احيانا جميعاً. فله المج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1:36:41Z</dcterms:created>
  <dc:creator>Charbel Azar</dc:creator>
  <dc:description/>
  <dc:language>en-US</dc:language>
  <cp:lastModifiedBy>ف</cp:lastModifiedBy>
  <dcterms:modified xsi:type="dcterms:W3CDTF">2007-07-10T19:57:56Z</dcterms:modified>
  <cp:revision>4</cp:revision>
  <dc:subject/>
  <dc:title>أَبُو دْقُوشْتُو، هُا برُخْ دِبْحاُ دَمْرَعي لُخْ لْهُنُا قَبِل، دَحْلُفَي مِيتْ واتحاسِي بِه</dc:title>
</cp:coreProperties>
</file>